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4F10-1C97-4059-9033-3C26DD191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D1E9-FF7E-449F-817E-3CE3CF3F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2BF3-A94F-45E3-BFCC-5DDFAB62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4DA4-310F-46B2-B391-E54A09777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E42E-754F-47DF-A5DB-93B4A430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3DF2-866D-4A21-B499-AD4912C4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F634-8EE3-41BC-AD24-E1B986C7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25E8-7DC7-42AC-A813-198FE01B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6DAA-FDDD-44E9-A5D3-68C15E95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1F5A-23C2-4556-94A3-C0F71BB3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83A6-EFD5-4659-BDEB-39ECE98D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3E91-9026-47D5-831C-123164FA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D4B1-C908-40DE-9E84-892D6CBF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7619-673E-47FF-A6D5-5C81005C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1D89-24EA-449E-9D56-5CFF0E48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17F9-D86E-4DAD-A44F-5DAE58621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8013-E141-4FA3-8ED9-2999AB532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067A-550A-4690-BB07-7A6FD6E9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9E0C-EC6C-42DF-8996-F34D4064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6338-8F0F-4CE3-92FA-51521477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D27A-E1A6-4B24-9BD7-3BB6398B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120D-C6F0-494A-B716-2E692BD2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1EAC-4E42-4E69-A3B9-6D9F2D1D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DB88-A74D-4A63-9420-A0554FA7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CEF2-76CF-4A71-BC00-BB387DA55A0A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B843-E685-4FDD-9652-1A2A9C30B5B6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Тьюторское сопровождение  профессионального развития педагога</a:t>
            </a:r>
            <a:br>
              <a:rPr sz="48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343040" y="4351320"/>
            <a:ext cx="409572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Выполнил: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Тяпугина С.Н.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методист по сельским школам МОУ ДПО «ЦНМО»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г. Лысьва, 2009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Профессиональные умения тьютора</a:t>
            </a:r>
            <a:br>
              <a:rPr sz="3600"/>
            </a:b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Тьютор- человек творческий, обладающий педагогическим тактом, способностью к эмпатии, компетентным в своей специальности и имеющий высокий уровень общей культур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Личностные качества тьютор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 сообразительн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работоспособн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эмоциональная восприимчив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увство юмора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психологическая зорк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сосредоточен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критич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стойкость в преодолении консерватизма, отстаивании своей позици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еткость, оригинальность, актив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увство нового, стремление к его познанию, способность к преодолении инерции мышлени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Требования к профессиональной позиции тьютора</a:t>
            </a:r>
            <a:r>
              <a:rPr b="1" i="1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Тьютор является педагогом, работающим в тех же нормативно-организационных и финансово-материальных условиях, что и обучаемый им учитель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Он должен обладать позитивным опытом ведения инновационной деятельности в образовании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Должен быть готов к профессионально-личностному саморазвитию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Ориентирован на профессиональное общение на основе равноправных партнерских отношений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Должен быть профессионально компетентен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Тьюторское сопровождение-</a:t>
            </a:r>
            <a:r>
              <a:rPr b="1" lang="ru-RU" sz="4000" spc="-1" strike="noStrike">
                <a:solidFill>
                  <a:srgbClr val="2a3d7a"/>
                </a:solidFill>
                <a:latin typeface="Times New Roman"/>
              </a:rPr>
              <a:t> это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собый тип педагогического сопровождение педагога, грамотное и заботливое сопровождени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Основные характеристики тьюторского сопровождения педагога: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b5249"/>
                </a:solidFill>
                <a:latin typeface="Times New Roman"/>
              </a:rPr>
              <a:t>субъектная активность, и тьютора, и подопечного.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Преимущества тьюторской технологии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в ходе профессионального общения вырабатывае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продуктивное взаимодействие,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 проявляется инициатива и того, и другого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тьюторская технологи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активизирует обучаемых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, превращает из пассивных потребителей информации в творческих соучастников процесса обучения.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Этапы тьюторской технологии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диагностически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мотивацион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целеполагающи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проектировоч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ценочно- результатив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Эффективность тьюторской технологии для педагог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7724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- удовлетворение профессионально- образовательные потребности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активное развитие компетентности, креативно- аналитического мышления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творческая самореализация и саморазвитие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Эффективность тьюторской технологии для педагога- тьютор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деятельность дает огромные возможности для профессионального и личностного роста педагога - тьютор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8380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«Ученик будет знать, что существует,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ребенок научится ходить сам по проторенному пути,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а подопечный тьютора научится создавать путь.»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(Рыбалкин Н.В. «Тьюторство: идеи и идеалогия»)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09480" y="2133360"/>
            <a:ext cx="81010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609480" y="1752480"/>
            <a:ext cx="792504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Тьютор(</a:t>
            </a:r>
            <a:r>
              <a:rPr b="1" i="1" lang="en-US" sz="4800" spc="-1" strike="noStrike">
                <a:solidFill>
                  <a:srgbClr val="2a3d7a"/>
                </a:solidFill>
                <a:latin typeface="Times New Roman"/>
              </a:rPr>
              <a:t>Tutor</a:t>
            </a: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) -</a:t>
            </a:r>
            <a:r>
              <a:rPr b="1" lang="ru-RU" sz="4400" spc="-1" strike="noStrike">
                <a:solidFill>
                  <a:srgbClr val="5b5249"/>
                </a:solidFill>
                <a:latin typeface="Times New Roman"/>
              </a:rPr>
              <a:t> это преподаватель, консультант(по карьере), наставник, куратор, партнер обучающихся взрослых.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Задачи тьютора: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-сопровождать учителя при овладении им учебной программой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- изучать индивидуальность педагога, с которым работает, его затруднения, профессиональные интересы.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Особенности</a:t>
            </a:r>
            <a:br>
              <a:rPr sz="3600"/>
            </a:b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 педагогической деятельности тьютора: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3276720"/>
            <a:ext cx="7772400" cy="30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тьютор отдает приоритет процессу самообучения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- тьютор отдает предпочтение практической направленности обуче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- цели обучения становя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предметом согласования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 между тьютором и педагогом, обучение строи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на гибкой основе 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и в соответствии с потребностями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Функции тьютора: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609480" y="2455200"/>
            <a:ext cx="7925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Arial"/>
              </a:rPr>
              <a:t>- осуществляет экспертизу педагогической деятельности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5b524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Arial"/>
              </a:rPr>
              <a:t>повышает мотивацию и вовлекает учителя в процесс самообразова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-определяет целеполагание, проектирует учебные модули заняти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проводит консультации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диагностирует состояние и ход обуче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корректирует деятельность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Содержание деятельности тьютора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Информ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Информирование педагогов о дополнительной научной литературе, возможности повысить квалификацию, участвовать в профессиональных конкурсах и т.д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Консульт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Консультирование по методологическим составляющим проектов, современным образовательным технологиям, описанию ИТ опыта и т.д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бучающ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бучение описанию собственного инновационного опыта работы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Содержание деятельности тьютора</a:t>
            </a:r>
            <a:br>
              <a:rPr sz="3600"/>
            </a:b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Мотив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Создание у педагога внутренней установки к собственному развитию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рганиз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рганизация работы временного творческого коллектива, планирование и анализ его деятельности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Диагностическ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Проведение входящей, промежуточной и итоговой диагностики педагогов – инноваторов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Тьютор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должен обладать системой интеллектуальных, волевых и эмоционально- оценочных отношений к миру, к педагогической действительности  и к новой для него деятельности, что становится источником его активност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дмила Александровна Молош</cp:lastModifiedBy>
  <dcterms:modified xsi:type="dcterms:W3CDTF">2018-10-31T04:29:01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